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8E9-E09E-4C15-A606-EA48FFDA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C9F-892D-461D-8A62-200DDECE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85F-3003-4245-A46D-BE454DD7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176C-7D92-45AC-8964-1DB09B11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F15-9EBF-49E6-820B-F9E2670C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432-4702-43E6-AB24-7A90C986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CDB-9AA2-4980-87FB-F5A6C29D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08C-4A59-4E2E-B6FF-E832F797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811-2799-46F2-AB6B-50193890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BC6-A080-4D4B-A7AB-F8ED5C5B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7A0-FEF9-4261-A080-89C48487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53F-5189-45AF-B0E7-0FB8233E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BDFD-D21C-46F8-BF76-7230A35C7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ademic Planning &amp; Managemen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. Tahir Nad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Diagram 5"/>
          <p:cNvGrpSpPr/>
          <p:nvPr/>
        </p:nvGrpSpPr>
        <p:grpSpPr>
          <a:xfrm>
            <a:off x="2349360" y="1937880"/>
            <a:ext cx="4445280" cy="3849840"/>
            <a:chOff x="2349360" y="1937880"/>
            <a:chExt cx="4445280" cy="3849840"/>
          </a:xfrm>
        </p:grpSpPr>
        <p:sp>
          <p:nvSpPr>
            <p:cNvPr id="74" name="_s2052"/>
            <p:cNvSpPr/>
            <p:nvPr/>
          </p:nvSpPr>
          <p:spPr>
            <a:xfrm flipV="1">
              <a:off x="3830760" y="1937520"/>
              <a:ext cx="1482480" cy="1282680"/>
            </a:xfrm>
            <a:custGeom>
              <a:avLst/>
              <a:gdLst>
                <a:gd name="textAreaLeft" fmla="*/ 531720 w 1482480"/>
                <a:gd name="textAreaRight" fmla="*/ 950760 w 1482480"/>
                <a:gd name="textAreaTop" fmla="*/ 460080 h 1282680"/>
                <a:gd name="textAreaBottom" fmla="*/ 822600 h 128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2053"/>
            <p:cNvSpPr/>
            <p:nvPr/>
          </p:nvSpPr>
          <p:spPr>
            <a:xfrm flipV="1">
              <a:off x="3090960" y="3220920"/>
              <a:ext cx="2962080" cy="1284480"/>
            </a:xfrm>
            <a:custGeom>
              <a:avLst/>
              <a:gdLst>
                <a:gd name="textAreaLeft" fmla="*/ 651240 w 2962080"/>
                <a:gd name="textAreaRight" fmla="*/ 2310840 w 2962080"/>
                <a:gd name="textAreaTop" fmla="*/ 282240 h 1284480"/>
                <a:gd name="textAreaBottom" fmla="*/ 1002240 h 128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ctical 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4"/>
            <p:cNvSpPr/>
            <p:nvPr/>
          </p:nvSpPr>
          <p:spPr>
            <a:xfrm flipV="1">
              <a:off x="2349360" y="4504680"/>
              <a:ext cx="4445280" cy="1282680"/>
            </a:xfrm>
            <a:custGeom>
              <a:avLst/>
              <a:gdLst>
                <a:gd name="textAreaLeft" fmla="*/ 771480 w 4445280"/>
                <a:gd name="textAreaRight" fmla="*/ 3673800 w 4445280"/>
                <a:gd name="textAreaTop" fmla="*/ 222480 h 1282680"/>
                <a:gd name="textAreaBottom" fmla="*/ 1060200 h 128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onal 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Diagram 5"/>
          <p:cNvGrpSpPr/>
          <p:nvPr/>
        </p:nvGrpSpPr>
        <p:grpSpPr>
          <a:xfrm>
            <a:off x="2400120" y="1982880"/>
            <a:ext cx="4343400" cy="3760560"/>
            <a:chOff x="2400120" y="1982880"/>
            <a:chExt cx="4343400" cy="3760560"/>
          </a:xfrm>
        </p:grpSpPr>
        <p:sp>
          <p:nvSpPr>
            <p:cNvPr id="79" name="_s3076"/>
            <p:cNvSpPr/>
            <p:nvPr/>
          </p:nvSpPr>
          <p:spPr>
            <a:xfrm flipV="1">
              <a:off x="4029120" y="1982880"/>
              <a:ext cx="1085760" cy="939600"/>
            </a:xfrm>
            <a:custGeom>
              <a:avLst/>
              <a:gdLst>
                <a:gd name="textAreaLeft" fmla="*/ 389520 w 1085760"/>
                <a:gd name="textAreaRight" fmla="*/ 696240 w 1085760"/>
                <a:gd name="textAreaTop" fmla="*/ 336960 h 939600"/>
                <a:gd name="textAreaBottom" fmla="*/ 60264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077"/>
            <p:cNvSpPr/>
            <p:nvPr/>
          </p:nvSpPr>
          <p:spPr>
            <a:xfrm flipV="1">
              <a:off x="3486240" y="2921760"/>
              <a:ext cx="2171520" cy="941400"/>
            </a:xfrm>
            <a:custGeom>
              <a:avLst/>
              <a:gdLst>
                <a:gd name="textAreaLeft" fmla="*/ 477360 w 2171520"/>
                <a:gd name="textAreaRight" fmla="*/ 1694160 w 2171520"/>
                <a:gd name="textAreaTop" fmla="*/ 207000 h 941400"/>
                <a:gd name="textAreaBottom" fmla="*/ 73440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3078"/>
            <p:cNvSpPr/>
            <p:nvPr/>
          </p:nvSpPr>
          <p:spPr>
            <a:xfrm flipV="1">
              <a:off x="2943000" y="3863160"/>
              <a:ext cx="3257640" cy="939960"/>
            </a:xfrm>
            <a:custGeom>
              <a:avLst/>
              <a:gdLst>
                <a:gd name="textAreaLeft" fmla="*/ 565560 w 3257640"/>
                <a:gd name="textAreaRight" fmla="*/ 2692080 w 3257640"/>
                <a:gd name="textAreaTop" fmla="*/ 163080 h 939960"/>
                <a:gd name="textAreaBottom" fmla="*/ 77688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gra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3079"/>
            <p:cNvSpPr/>
            <p:nvPr/>
          </p:nvSpPr>
          <p:spPr>
            <a:xfrm flipV="1">
              <a:off x="2400120" y="4803840"/>
              <a:ext cx="4343400" cy="939600"/>
            </a:xfrm>
            <a:custGeom>
              <a:avLst/>
              <a:gdLst>
                <a:gd name="textAreaLeft" fmla="*/ 653400 w 4343400"/>
                <a:gd name="textAreaRight" fmla="*/ 3690000 w 4343400"/>
                <a:gd name="textAreaTop" fmla="*/ 141120 h 939600"/>
                <a:gd name="textAreaBottom" fmla="*/ 79848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&amp; 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8229600" cy="3024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te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p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al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……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Eradicate Il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8229600" cy="359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Strategic Decis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Tactical Assessmen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Operation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652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Conventional Primary Education as well as adult Litera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any Schools/Centre &amp; where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 it cos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, staff, books, evaluation, supervision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of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Content Placeholder 3"/>
          <p:cNvGrpSpPr/>
          <p:nvPr/>
        </p:nvGrpSpPr>
        <p:grpSpPr>
          <a:xfrm>
            <a:off x="2419200" y="1692360"/>
            <a:ext cx="4305600" cy="4268520"/>
            <a:chOff x="2419200" y="1692360"/>
            <a:chExt cx="4305600" cy="4268520"/>
          </a:xfrm>
        </p:grpSpPr>
        <p:sp>
          <p:nvSpPr>
            <p:cNvPr id="90" name="_s4100"/>
            <p:cNvSpPr/>
            <p:nvPr/>
          </p:nvSpPr>
          <p:spPr>
            <a:xfrm flipH="1" flipV="1">
              <a:off x="3819600" y="2692440"/>
              <a:ext cx="544320" cy="84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101"/>
            <p:cNvSpPr/>
            <p:nvPr/>
          </p:nvSpPr>
          <p:spPr>
            <a:xfrm>
              <a:off x="3219480" y="1973160"/>
              <a:ext cx="781200" cy="78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4102"/>
            <p:cNvSpPr/>
            <p:nvPr/>
          </p:nvSpPr>
          <p:spPr>
            <a:xfrm flipH="1" flipV="1">
              <a:off x="3306600" y="3285720"/>
              <a:ext cx="914400" cy="41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4103"/>
            <p:cNvSpPr/>
            <p:nvPr/>
          </p:nvSpPr>
          <p:spPr>
            <a:xfrm>
              <a:off x="2562120" y="2732040"/>
              <a:ext cx="781200" cy="78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jec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mul.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lem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4104"/>
            <p:cNvSpPr/>
            <p:nvPr/>
          </p:nvSpPr>
          <p:spPr>
            <a:xfrm flipH="1">
              <a:off x="3196800" y="3917880"/>
              <a:ext cx="9939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4105"/>
            <p:cNvSpPr/>
            <p:nvPr/>
          </p:nvSpPr>
          <p:spPr>
            <a:xfrm>
              <a:off x="2419200" y="3726000"/>
              <a:ext cx="781200" cy="78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abo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4106"/>
            <p:cNvSpPr/>
            <p:nvPr/>
          </p:nvSpPr>
          <p:spPr>
            <a:xfrm flipH="1">
              <a:off x="3524040" y="4116240"/>
              <a:ext cx="75708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4107"/>
            <p:cNvSpPr/>
            <p:nvPr/>
          </p:nvSpPr>
          <p:spPr>
            <a:xfrm>
              <a:off x="2836800" y="4638600"/>
              <a:ext cx="781200" cy="78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m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4108"/>
            <p:cNvSpPr/>
            <p:nvPr/>
          </p:nvSpPr>
          <p:spPr>
            <a:xfrm flipH="1">
              <a:off x="4182840" y="4233960"/>
              <a:ext cx="282600" cy="9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4109"/>
            <p:cNvSpPr/>
            <p:nvPr/>
          </p:nvSpPr>
          <p:spPr>
            <a:xfrm>
              <a:off x="3681360" y="5180040"/>
              <a:ext cx="781200" cy="78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asibilit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4110"/>
            <p:cNvSpPr/>
            <p:nvPr/>
          </p:nvSpPr>
          <p:spPr>
            <a:xfrm>
              <a:off x="4683240" y="4232160"/>
              <a:ext cx="282600" cy="96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4111"/>
            <p:cNvSpPr/>
            <p:nvPr/>
          </p:nvSpPr>
          <p:spPr>
            <a:xfrm>
              <a:off x="4684680" y="5180040"/>
              <a:ext cx="781200" cy="78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orit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4112"/>
            <p:cNvSpPr/>
            <p:nvPr/>
          </p:nvSpPr>
          <p:spPr>
            <a:xfrm>
              <a:off x="4865760" y="4114800"/>
              <a:ext cx="757080" cy="65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4113"/>
            <p:cNvSpPr/>
            <p:nvPr/>
          </p:nvSpPr>
          <p:spPr>
            <a:xfrm>
              <a:off x="5527800" y="4637160"/>
              <a:ext cx="780840" cy="78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e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114"/>
            <p:cNvSpPr/>
            <p:nvPr/>
          </p:nvSpPr>
          <p:spPr>
            <a:xfrm>
              <a:off x="4956120" y="3916440"/>
              <a:ext cx="99072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115"/>
            <p:cNvSpPr/>
            <p:nvPr/>
          </p:nvSpPr>
          <p:spPr>
            <a:xfrm>
              <a:off x="5943600" y="3724200"/>
              <a:ext cx="781200" cy="78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m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116"/>
            <p:cNvSpPr/>
            <p:nvPr/>
          </p:nvSpPr>
          <p:spPr>
            <a:xfrm flipV="1">
              <a:off x="4924440" y="3284280"/>
              <a:ext cx="911160" cy="41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117"/>
            <p:cNvSpPr/>
            <p:nvPr/>
          </p:nvSpPr>
          <p:spPr>
            <a:xfrm>
              <a:off x="5800680" y="2732040"/>
              <a:ext cx="781200" cy="78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agno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118"/>
            <p:cNvSpPr/>
            <p:nvPr/>
          </p:nvSpPr>
          <p:spPr>
            <a:xfrm flipV="1">
              <a:off x="4781520" y="2693520"/>
              <a:ext cx="541440" cy="84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119"/>
            <p:cNvSpPr/>
            <p:nvPr/>
          </p:nvSpPr>
          <p:spPr>
            <a:xfrm>
              <a:off x="5143680" y="1974960"/>
              <a:ext cx="780840" cy="78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120"/>
            <p:cNvSpPr/>
            <p:nvPr/>
          </p:nvSpPr>
          <p:spPr>
            <a:xfrm flipV="1">
              <a:off x="4572000" y="2473200"/>
              <a:ext cx="0" cy="10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121"/>
            <p:cNvSpPr/>
            <p:nvPr/>
          </p:nvSpPr>
          <p:spPr>
            <a:xfrm>
              <a:off x="4181400" y="1692360"/>
              <a:ext cx="781200" cy="78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 Pla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122"/>
            <p:cNvSpPr/>
            <p:nvPr/>
          </p:nvSpPr>
          <p:spPr>
            <a:xfrm>
              <a:off x="4181400" y="3473280"/>
              <a:ext cx="781200" cy="78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dentify development goals for a backward &amp; poor rural community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6324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3595680" y="5791320"/>
            <a:ext cx="365256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Resources No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lan Academics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eying 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Goals and 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219320" y="1601640"/>
            <a:ext cx="6476760" cy="4523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basis (SWOT Analy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1600200"/>
          <a:ext cx="8229600" cy="18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Strategic Decis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Tactical Assessmen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Operation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ademic Calend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Table Activity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 out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out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genda;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Plan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nd activities in academ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ing effective and ineffective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Skills for organizing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1143000" y="2459160"/>
            <a:ext cx="6629400" cy="33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  <a:ea typeface="MS PGothic"/>
              </a:rPr>
              <a:t>Prep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lin Sans FB Demi"/>
                <a:ea typeface="MS PGothic"/>
              </a:rPr>
              <a:t>An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  <a:ea typeface="MS PGothic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  <a:ea typeface="MS PGothic"/>
              </a:rPr>
              <a:t>Academic Calendar for Your Instit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your goals for academic excellence in School?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(keeping in view the following conside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atisfaction of fel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Utilization of untapped/hidde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ost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void Potential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ime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Management frien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demic Planning…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444680" y="2009880"/>
            <a:ext cx="625464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163520" y="2786040"/>
            <a:ext cx="6810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e an ‘ADVERTISEMENT’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‘AN IDEAL MANAGER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Content Placeholder 4" descr=""/>
          <p:cNvPicPr/>
          <p:nvPr/>
        </p:nvPicPr>
        <p:blipFill>
          <a:blip r:embed="rId1"/>
          <a:stretch/>
        </p:blipFill>
        <p:spPr>
          <a:xfrm>
            <a:off x="974880" y="2030400"/>
            <a:ext cx="3000240" cy="366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4648320" y="2071800"/>
            <a:ext cx="403848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rding to Luther Gaullic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DCo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Content Placeholder 3"/>
          <p:cNvGrpSpPr/>
          <p:nvPr/>
        </p:nvGrpSpPr>
        <p:grpSpPr>
          <a:xfrm>
            <a:off x="457200" y="1600200"/>
            <a:ext cx="8229240" cy="4524480"/>
            <a:chOff x="457200" y="1600200"/>
            <a:chExt cx="8229240" cy="4524480"/>
          </a:xfrm>
        </p:grpSpPr>
        <p:cxnSp>
          <p:nvCxnSpPr>
            <p:cNvPr id="132" name="_s5124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5875560" y="2105640"/>
              <a:ext cx="905400" cy="351216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5125"/>
            <p:cNvCxnSpPr>
              <a:stCxn id="136" idx="0"/>
              <a:endCxn id="134" idx="2"/>
            </p:cNvCxnSpPr>
            <p:nvPr/>
          </p:nvCxnSpPr>
          <p:spPr>
            <a:xfrm flipV="1" rot="16200000">
              <a:off x="5172840" y="2808360"/>
              <a:ext cx="905400" cy="210672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5126"/>
            <p:cNvCxnSpPr>
              <a:stCxn id="138" idx="0"/>
              <a:endCxn id="134" idx="2"/>
            </p:cNvCxnSpPr>
            <p:nvPr/>
          </p:nvCxnSpPr>
          <p:spPr>
            <a:xfrm flipV="1" rot="16200000">
              <a:off x="4471560" y="3509640"/>
              <a:ext cx="905400" cy="70416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5127"/>
            <p:cNvCxnSpPr>
              <a:stCxn id="140" idx="0"/>
              <a:endCxn id="134" idx="2"/>
            </p:cNvCxnSpPr>
            <p:nvPr/>
          </p:nvCxnSpPr>
          <p:spPr>
            <a:xfrm flipH="1" flipV="1" rot="5400000">
              <a:off x="3769200" y="3511080"/>
              <a:ext cx="905400" cy="70200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5128"/>
            <p:cNvCxnSpPr>
              <a:stCxn id="142" idx="0"/>
              <a:endCxn id="134" idx="2"/>
            </p:cNvCxnSpPr>
            <p:nvPr/>
          </p:nvCxnSpPr>
          <p:spPr>
            <a:xfrm flipH="1" flipV="1" rot="5400000">
              <a:off x="3066840" y="2808360"/>
              <a:ext cx="905400" cy="210744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5129"/>
            <p:cNvCxnSpPr>
              <a:stCxn id="144" idx="0"/>
              <a:endCxn id="134" idx="2"/>
            </p:cNvCxnSpPr>
            <p:nvPr/>
          </p:nvCxnSpPr>
          <p:spPr>
            <a:xfrm flipH="1" flipV="1" rot="5400000">
              <a:off x="2363760" y="2105640"/>
              <a:ext cx="905400" cy="351252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5130"/>
            <p:cNvSpPr/>
            <p:nvPr/>
          </p:nvSpPr>
          <p:spPr>
            <a:xfrm>
              <a:off x="3968640" y="160020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g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5131"/>
            <p:cNvSpPr/>
            <p:nvPr/>
          </p:nvSpPr>
          <p:spPr>
            <a:xfrm>
              <a:off x="457200" y="431496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an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5132"/>
            <p:cNvSpPr/>
            <p:nvPr/>
          </p:nvSpPr>
          <p:spPr>
            <a:xfrm>
              <a:off x="1862280" y="431496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ganiz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5133"/>
            <p:cNvSpPr/>
            <p:nvPr/>
          </p:nvSpPr>
          <p:spPr>
            <a:xfrm>
              <a:off x="3267720" y="431496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ff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5134"/>
            <p:cNvSpPr/>
            <p:nvPr/>
          </p:nvSpPr>
          <p:spPr>
            <a:xfrm>
              <a:off x="4672800" y="431496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rec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135"/>
            <p:cNvSpPr/>
            <p:nvPr/>
          </p:nvSpPr>
          <p:spPr>
            <a:xfrm>
              <a:off x="6078240" y="4314960"/>
              <a:ext cx="1203120" cy="180972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87">
                  <a:moveTo>
                    <a:pt x="3600" y="0"/>
                  </a:moveTo>
                  <a:arcTo wR="3600" hR="3600" stAng="16200000" swAng="-5400000"/>
                  <a:lnTo>
                    <a:pt x="0" y="28887"/>
                  </a:lnTo>
                  <a:arcTo wR="3600" hR="3600" stAng="10800000" swAng="-5400000"/>
                  <a:lnTo>
                    <a:pt x="18000" y="324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ord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136"/>
            <p:cNvSpPr/>
            <p:nvPr/>
          </p:nvSpPr>
          <p:spPr>
            <a:xfrm>
              <a:off x="7482240" y="431496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por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3030"/>
                </a:solidFill>
                <a:latin typeface="Impact"/>
              </a:rPr>
              <a:t>Activity: </a:t>
            </a:r>
            <a:br>
              <a:rPr sz="3600"/>
            </a:br>
            <a:r>
              <a:rPr b="0" lang="en-US" sz="3600" spc="-1" strike="noStrike">
                <a:solidFill>
                  <a:srgbClr val="303030"/>
                </a:solidFill>
                <a:latin typeface="Impact"/>
              </a:rPr>
              <a:t>How Do You Workout Science Exhibition Project In Your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846440" y="2039760"/>
            <a:ext cx="5451120" cy="36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THANKS A L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If you don’t plan, the student will plan for you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student imagination"/>
          <p:cNvPicPr/>
          <p:nvPr/>
        </p:nvPicPr>
        <p:blipFill>
          <a:blip r:embed="rId1"/>
          <a:stretch/>
        </p:blipFill>
        <p:spPr>
          <a:xfrm>
            <a:off x="2057400" y="1676520"/>
            <a:ext cx="5486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44600" y="1459080"/>
            <a:ext cx="80899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scheme for making, doing or arranging somethi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WP. Guru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ndamental principle in planning is that one should consciously and diligently make a choice among the foreseeable alternative futures and guide today’s action towards the achievement of the selected future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Your experiences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426960" y="1584360"/>
            <a:ext cx="82598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appointed as a Director of a Task Force in a District. You have no information about that district and its education. Target of that Task Force is “Improvements in College Education”.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 do you need to know before starting your wor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Elements of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Content Placeholder 4"/>
          <p:cNvGrpSpPr/>
          <p:nvPr/>
        </p:nvGrpSpPr>
        <p:grpSpPr>
          <a:xfrm>
            <a:off x="2479680" y="1901880"/>
            <a:ext cx="4186080" cy="4098600"/>
            <a:chOff x="2479680" y="1901880"/>
            <a:chExt cx="4186080" cy="4098600"/>
          </a:xfrm>
        </p:grpSpPr>
        <p:sp>
          <p:nvSpPr>
            <p:cNvPr id="58" name="_s1028"/>
            <p:cNvSpPr/>
            <p:nvPr/>
          </p:nvSpPr>
          <p:spPr>
            <a:xfrm>
              <a:off x="3716280" y="1920600"/>
              <a:ext cx="1711440" cy="171144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29"/>
            <p:cNvSpPr/>
            <p:nvPr/>
          </p:nvSpPr>
          <p:spPr>
            <a:xfrm rot="3060000">
              <a:off x="4565160" y="2330280"/>
              <a:ext cx="1711440" cy="171144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0"/>
            <p:cNvSpPr/>
            <p:nvPr/>
          </p:nvSpPr>
          <p:spPr>
            <a:xfrm rot="6180000">
              <a:off x="4776120" y="3249000"/>
              <a:ext cx="1711440" cy="171108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1711080"/>
                <a:gd name="textAreaBottom" fmla="*/ 1711440 h 171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1"/>
            <p:cNvSpPr/>
            <p:nvPr/>
          </p:nvSpPr>
          <p:spPr>
            <a:xfrm rot="9240000">
              <a:off x="4187520" y="3987720"/>
              <a:ext cx="1711080" cy="1711440"/>
            </a:xfrm>
            <a:custGeom>
              <a:avLst/>
              <a:gdLst>
                <a:gd name="textAreaLeft" fmla="*/ 0 w 1711080"/>
                <a:gd name="textAreaRight" fmla="*/ 1711440 w 17110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2"/>
            <p:cNvSpPr/>
            <p:nvPr/>
          </p:nvSpPr>
          <p:spPr>
            <a:xfrm rot="12360000">
              <a:off x="3244320" y="3987360"/>
              <a:ext cx="1711440" cy="171144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3"/>
            <p:cNvSpPr/>
            <p:nvPr/>
          </p:nvSpPr>
          <p:spPr>
            <a:xfrm rot="15420000">
              <a:off x="2655360" y="3250440"/>
              <a:ext cx="1711080" cy="1711440"/>
            </a:xfrm>
            <a:custGeom>
              <a:avLst/>
              <a:gdLst>
                <a:gd name="textAreaLeft" fmla="*/ 0 w 1711080"/>
                <a:gd name="textAreaRight" fmla="*/ 1711440 w 17110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4"/>
            <p:cNvSpPr/>
            <p:nvPr/>
          </p:nvSpPr>
          <p:spPr>
            <a:xfrm rot="18540000">
              <a:off x="2865240" y="2329920"/>
              <a:ext cx="1711440" cy="171144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5"/>
            <p:cNvSpPr/>
            <p:nvPr/>
          </p:nvSpPr>
          <p:spPr>
            <a:xfrm>
              <a:off x="5019480" y="1901880"/>
              <a:ext cx="66996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6"/>
            <p:cNvSpPr/>
            <p:nvPr/>
          </p:nvSpPr>
          <p:spPr>
            <a:xfrm>
              <a:off x="2479680" y="3127320"/>
              <a:ext cx="6699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7"/>
            <p:cNvSpPr/>
            <p:nvPr/>
          </p:nvSpPr>
          <p:spPr>
            <a:xfrm>
              <a:off x="3454200" y="1903320"/>
              <a:ext cx="6699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8"/>
            <p:cNvSpPr/>
            <p:nvPr/>
          </p:nvSpPr>
          <p:spPr>
            <a:xfrm>
              <a:off x="5995800" y="3125520"/>
              <a:ext cx="6699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9"/>
            <p:cNvSpPr/>
            <p:nvPr/>
          </p:nvSpPr>
          <p:spPr>
            <a:xfrm>
              <a:off x="5648400" y="4651200"/>
              <a:ext cx="6696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40"/>
            <p:cNvSpPr/>
            <p:nvPr/>
          </p:nvSpPr>
          <p:spPr>
            <a:xfrm>
              <a:off x="4238640" y="5330880"/>
              <a:ext cx="66996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1"/>
            <p:cNvSpPr/>
            <p:nvPr/>
          </p:nvSpPr>
          <p:spPr>
            <a:xfrm>
              <a:off x="2828880" y="4653000"/>
              <a:ext cx="6699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22:15:08Z</dcterms:created>
  <dc:creator>Tahir</dc:creator>
  <dc:description/>
  <dc:language>en-US</dc:language>
  <cp:lastModifiedBy>IUB-Admin</cp:lastModifiedBy>
  <dcterms:modified xsi:type="dcterms:W3CDTF">2016-10-23T20:10:08Z</dcterms:modified>
  <cp:revision>30</cp:revision>
  <dc:subject/>
  <dc:title>Planning “A scheme for making, doing or arranging something”</dc:title>
</cp:coreProperties>
</file>